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BB77-4752-4F52-9F49-82E1C8D12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3271-C4EE-408B-BA96-6348B5E8A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D15A-7221-4A6A-9FA9-E572FA951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CAAE-5D73-454F-B014-898A9F3C6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DBD2F6-4D88-4F86-876E-777332D2B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A97364-3080-4070-B598-F53B13356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0EFD74-FB4D-40D3-B5AB-A74054637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9DDC5E-2535-4D3E-BF09-454F3C045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CA471C-288E-4EB3-BD58-197143B03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A4F1CC-3E80-47B0-AA45-1939CE490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B62E6A-D86B-4FC9-BB5B-D94D8438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B280-6ACB-4793-8AB0-BE5AECCC9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C8707F-BEB2-49BB-A9BC-EB2FC495F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BE4953-5909-43F5-B98B-C2B463AD5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AAFBCC-D956-44D5-973D-836E400E1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1CE357-F4A3-43A2-BD80-24868ACF3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C2A248-A19C-4775-940F-6CC9A33A4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7989-D0D9-47DD-9B0A-D7EC368DD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2A21-97C0-4DB4-B527-7F05B6C41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33D1-78B0-41A6-AF2C-9246A8E4B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3921-99DA-47B0-A355-2595C35B2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10B3-3AAD-4BDA-AF31-99AA76AF3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A82F-FAC7-431E-B41B-470259C7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C23B-C2C3-4F7C-B228-100A5A57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C8586-9E50-4460-9272-3D221908E1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D9F52-73FD-49C6-B9C7-7AF07ACE2E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952880" cy="21337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2209680" y="3809880"/>
            <a:ext cx="441972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or : Antonio Severance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4952880" y="367200"/>
            <a:ext cx="3505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10080" y="457200"/>
            <a:ext cx="3353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A MANSI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  <a:ea typeface="Tahoma"/>
              </a:rPr>
              <a:t>Ò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14520" y="2133720"/>
            <a:ext cx="611496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el mansion y grande,lujoso,bello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advTm="5000"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80880" y="457200"/>
            <a:ext cx="784872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00008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hnx for whaching!!!!!!!!!!!!!!!!!!!!!!!!!!!!!!!!!!!!!</a:t>
            </a:r>
            <a:endParaRPr b="1" i="1" lang="en-US" sz="4800" spc="1" strike="noStrike">
              <a:ln w="9360">
                <a:solidFill>
                  <a:srgbClr val="33cccc"/>
                </a:solidFill>
                <a:miter/>
              </a:ln>
              <a:solidFill>
                <a:srgbClr val="00008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5000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2057400" y="0"/>
            <a:ext cx="36576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la cocina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0" y="1828800"/>
            <a:ext cx="38862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s una cocin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514600" y="2895480"/>
            <a:ext cx="5562720" cy="3178440"/>
          </a:xfrm>
          <a:prstGeom prst="rect">
            <a:avLst/>
          </a:prstGeom>
          <a:ln w="0">
            <a:noFill/>
          </a:ln>
        </p:spPr>
      </p:pic>
    </p:spTree>
  </p:cSld>
  <p:transition advTm="5000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495680" cy="22194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533520" y="152280"/>
            <a:ext cx="624816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el comedo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80880" y="2666880"/>
            <a:ext cx="3810240" cy="838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s una comedo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ransition advTm="5000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276720" y="0"/>
            <a:ext cx="5867280" cy="32767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0" y="0"/>
            <a:ext cx="30481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a sala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" name=""/>
          <p:cNvSpPr txBox="1"/>
          <p:nvPr/>
        </p:nvSpPr>
        <p:spPr>
          <a:xfrm rot="5400000">
            <a:off x="4114440" y="3809880"/>
            <a:ext cx="3124440" cy="2666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es una sala</a:t>
            </a:r>
            <a:endParaRPr b="0" i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5000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5181480" cy="342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791320" y="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Una ba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ñ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14600" y="3657600"/>
            <a:ext cx="439092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i bano moderno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5000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191120" cy="30225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5105520" y="228600"/>
            <a:ext cx="3448080" cy="150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una cuart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3276720"/>
            <a:ext cx="41148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mi cuarto fabulos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advTm="5000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95680" cy="32004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6248520" y="685800"/>
            <a:ext cx="17524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una patio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19480" y="3809880"/>
            <a:ext cx="31813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mi patio bonito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advTm="5000"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191120" cy="32004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5943600" y="457200"/>
            <a:ext cx="18954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una jard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4120" y="4038480"/>
            <a:ext cx="272412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mi jarin bonito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p:transition advTm="5000"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257800" cy="43052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181480" y="228600"/>
            <a:ext cx="37432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una garaj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133720" y="4876920"/>
            <a:ext cx="46288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10199"/>
                  </a:solidFill>
                  <a:prstDash val="sysDot"/>
                  <a:miter/>
                </a:ln>
                <a:solidFill>
                  <a:srgbClr val="008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mi garaje impresionante</a:t>
            </a:r>
            <a:endParaRPr b="0" lang="en-US" sz="1800" spc="1" strike="noStrike">
              <a:ln w="9360">
                <a:solidFill>
                  <a:srgbClr val="010199"/>
                </a:solidFill>
                <a:prstDash val="sysDot"/>
                <a:miter/>
              </a:ln>
              <a:solidFill>
                <a:srgbClr val="008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advTm="5000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4T15:31:04Z</dcterms:created>
  <dc:creator>severanceant</dc:creator>
  <dc:description/>
  <dc:language>en-US</dc:language>
  <cp:lastModifiedBy>severanceant</cp:lastModifiedBy>
  <dcterms:modified xsi:type="dcterms:W3CDTF">2012-03-16T13:28:54Z</dcterms:modified>
  <cp:revision>4</cp:revision>
  <dc:subject/>
  <dc:title>Slide 1</dc:title>
</cp:coreProperties>
</file>